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623-27E7-4FB2-9BB5-4BF1E5AE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D47-C975-45E4-A67E-FB165F0A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819-1FAB-4F37-AE64-39E69856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853-525D-4DF7-B4F8-4556C333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E57-26F8-4BEC-BA93-ED8EC3E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FBB-123C-4113-9C77-80AD98F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51C-556C-466A-A67F-73E03D97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BE6-BF87-4BF2-85FF-9A0AE5BE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768-4BB1-4017-9B89-D172D6BA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63E-057E-40E7-9700-C0A61D5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B93-3881-44DC-89E6-C5EA0E3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CDA-DA12-4AB8-AAB9-8071A989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4DFF-7B54-4180-BE86-A6764CFF3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MBERNAULD                           CUMBERNAULD                              DUMBARTON                                          DUNDEE                                          DUNDEE                                            DY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FIFE                                        EAST  FIFE                                   EAST  FIFE  25TH                            EAST  KILBRIDE                                 EAST  LOTHIAN                              EDINBURG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676800" y="2811600"/>
            <a:ext cx="75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LGIN                                            ELGIN                                                   FALKIRK                                            FALKIRK                                             FALKIRK                                          FI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NTRY                                FRASERBURGH                                       GALLEON                                               GALLEON                                        GARIOCH                                     GLAS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8880" y="115920"/>
            <a:ext cx="13158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68880" y="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81960" y="115920"/>
            <a:ext cx="969840" cy="12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21600" y="11592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88880" y="16286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0028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097600" y="191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81960" y="191628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048520" y="184464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928880" y="371628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584520" y="357336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024520" y="335772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08880" y="335772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12160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56052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1928880" y="530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513240" y="508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30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21600" y="5157720"/>
            <a:ext cx="104292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2000160" y="1628640"/>
            <a:ext cx="1243080" cy="133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76880" y="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240160" y="5084640"/>
            <a:ext cx="98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5:41:59Z</dcterms:created>
  <dc:creator>John Young</dc:creator>
  <dc:description/>
  <dc:language>en-US</dc:language>
  <cp:lastModifiedBy>JY</cp:lastModifiedBy>
  <dcterms:modified xsi:type="dcterms:W3CDTF">2008-01-05T12:10:40Z</dcterms:modified>
  <cp:revision>17</cp:revision>
  <dc:subject/>
  <dc:title>No Slide Title</dc:title>
</cp:coreProperties>
</file>